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5406-D3CA-4B3D-A4FC-F7141E00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4E35-E907-4743-A9BF-55205D0E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C04-5695-4305-94B8-39A4479E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C2F-24FB-45B1-9D2C-42B97BD3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3DB-ADF9-4A69-A87B-B3F4262F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3D2-78D8-43B7-9FA0-61E3CD9D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112-C449-4F48-89FE-91164A3A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619-762D-4F75-BD1C-C9BF655D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60C-812B-4F2F-B9F8-66F8CC74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C22-4D1F-4272-8B2F-95DAD063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8FC-D5A7-4263-B6C5-44D8474D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A98-5A37-4363-8DE6-C961F021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Click to edit the title text format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1" marL="615960" indent="-309240">
              <a:spcBef>
                <a:spcPts val="9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2" marL="878760" indent="-261360">
              <a:spcBef>
                <a:spcPts val="9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3" marL="1140120" indent="-259920">
              <a:spcBef>
                <a:spcPts val="95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4" marL="1422720" indent="-281160">
              <a:spcBef>
                <a:spcPts val="95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5" marL="1422720" indent="-281160">
              <a:spcBef>
                <a:spcPts val="9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6" marL="1422720" indent="-281160">
              <a:spcBef>
                <a:spcPts val="9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000" spc="-1" strike="noStrike">
                <a:solidFill>
                  <a:srgbClr val="000000"/>
                </a:solidFill>
                <a:latin typeface="Browallia New"/>
                <a:ea typeface="Browall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Browallia New"/>
                <a:ea typeface="Browalli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Browallia New"/>
                <a:ea typeface="Browall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CD27-CF64-4872-A4F5-15AC56040AA2}" type="slidenum">
              <a:rPr b="0" lang="en-US" sz="2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Browallia New"/>
              </a:rPr>
              <a:t>Click to edit the title text format</a:t>
            </a:r>
            <a:endParaRPr b="1" lang="en-US" sz="5400" spc="-1" strike="noStrike">
              <a:solidFill>
                <a:srgbClr val="330066"/>
              </a:solidFill>
              <a:latin typeface="Browallia New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7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rowallia New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  <a:p>
            <a:pPr lvl="1" marL="344520"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2" marL="693720" algn="ctr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walli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owallia New"/>
            </a:endParaRPr>
          </a:p>
          <a:p>
            <a:pPr lvl="3" marL="988920" algn="ctr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4" marL="1282680" algn="ctr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5" marL="12826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6" marL="12826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330066"/>
                </a:solidFill>
                <a:latin typeface="Browallia New"/>
              </a:rPr>
              <a:t>การนิยามประสิทธิภาพ</a:t>
            </a:r>
            <a:endParaRPr b="1" lang="en-US" sz="54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rowallia New"/>
              </a:rPr>
              <a:t>530528  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การประเมินประสิทธิภาพของคอมพิวเตอร์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  <a:p>
            <a:pPr indent="0" algn="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อ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.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ดร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.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ณัฐวุฒิ หนูไพโรจน์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  <a:p>
            <a:pPr indent="0" algn="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ภาควิชาวิศวกรรมคอมพิวเตอร์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  <a:p>
            <a:pPr indent="0" algn="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จุฬาลงกรณ์มหาวิทยาลัย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สัดส่วนเวลาที่เครื่องทำงาน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Utilization = </a:t>
            </a: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เวลาที่เครื่องทำงาน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/</a:t>
            </a: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เวลาทั้งหมด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มักจะมีค่าระหว่าง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0 </a:t>
            </a: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ถึง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ยิ่งมากแสดงว่าเครื่องทำงานหนัก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ถ้าใกล้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1 </a:t>
            </a: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อาจจะหมายถึงมีอุปกรณ์ไม่พอ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แต่อาจทำให้ตอบสนองได้ช้าลง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การนิยามประสิทธิภาพ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819-D794-45FE-9AC1-3AF9CB0C45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ภาระงาน</a:t>
            </a: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 </a:t>
            </a: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(Workload)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ปริมาณงานที่ให้กับระบบ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วิเคราะห์รูปแบบของภาระงาน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(Workload Characterization)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รูปแบบการกระจายของการมาถึง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arrival distribution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ค่าเฉลี่ยของอัตราการมาถึง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mean arrival rate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การนิยามประสิทธิภาพ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A36-5DDD-4DE9-AECE-04ED6718540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รูปแบบของภาระงาน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Open Transaction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การร้องขอหน้าเว็บที่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web server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แห่งหนึ่ง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666880" y="3505320"/>
          <a:ext cx="4378320" cy="11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505320"/>
                    <a:ext cx="43783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การนิยามประสิทธิภาพ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868-05EE-4931-BE29-A785A671A7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รูปแบบของภาระงาน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Close Transaction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ระบบ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Terminal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733920" y="2819520"/>
          <a:ext cx="4278240" cy="27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819520"/>
                    <a:ext cx="427824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การนิยามประสิทธิภาพ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329-551C-4829-8AFB-F08BCACE72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100" spc="-1" strike="noStrike">
                <a:solidFill>
                  <a:srgbClr val="330066"/>
                </a:solidFill>
                <a:latin typeface="Browallia New"/>
              </a:rPr>
              <a:t>หัวข้อการบรรยาย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ตัวแปรประสิทธิภาพ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ภาระงาน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การนิยามประสิทธิภาพ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2BF-AADA-40A5-8ADB-FC9670437C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เป้าหมายของระบบคอมพิวเตอร์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ให้</a:t>
            </a:r>
            <a:r>
              <a:rPr b="1" lang="th-TH" sz="3800" spc="-1" strike="noStrike">
                <a:solidFill>
                  <a:srgbClr val="ff0000"/>
                </a:solidFill>
                <a:latin typeface="Browallia New"/>
              </a:rPr>
              <a:t>บริการที่เหมาะสม</a:t>
            </a: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 ในราคาต่ำ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ตัววัดเชิงคุณภาพ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2" marL="987480" indent="-29376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Browallia New"/>
              </a:rPr>
              <a:t>การง่ายในการใช้งาน</a:t>
            </a:r>
            <a:endParaRPr b="0" lang="en-US" sz="3200" spc="-1" strike="noStrike">
              <a:solidFill>
                <a:srgbClr val="000000"/>
              </a:solidFill>
              <a:latin typeface="Browallia New"/>
            </a:endParaRPr>
          </a:p>
          <a:p>
            <a:pPr lvl="2" marL="987480" indent="-29376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Browallia New"/>
              </a:rPr>
              <a:t>การรองรับความต้องการของผู้ใช้</a:t>
            </a:r>
            <a:endParaRPr b="0" lang="en-US" sz="32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ตัววัดเชิงปริมาณ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2" marL="987480" indent="-29376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Browallia New"/>
              </a:rPr>
              <a:t>บางที่เรียกว่า </a:t>
            </a:r>
            <a:r>
              <a:rPr b="0" lang="en-US" sz="3200" spc="-1" strike="noStrike">
                <a:solidFill>
                  <a:srgbClr val="000000"/>
                </a:solidFill>
                <a:latin typeface="Browallia New"/>
              </a:rPr>
              <a:t>Service Level Agreement</a:t>
            </a:r>
            <a:endParaRPr b="0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การนิยามประสิทธิภาพ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B85-CA99-4E69-A5F3-45532A192E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ตัววัดเชิงปริมาณ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ตัวแปรประสิทธิภาพภายนอก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(External Performance Variables)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สิ่งที่เกี่ยวกับผู้ใช้โดยตรง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ความเร็วในการทำงา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speed / time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ช่วงเวลาที่ใช้งานได้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availability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อัตราการทำงาน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throughput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การนิยามประสิทธิภาพ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42B7-118D-40A6-B78C-A6A7419A05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ความเร็วในการทำงาน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ระบบ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interactive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response time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หรือ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service time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think time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600200" y="3809880"/>
          <a:ext cx="5759280" cy="15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9880"/>
                    <a:ext cx="5759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การนิยามประสิทธิภาพ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ABB-9DF1-4EC8-804F-4E66624FCE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ความเร็วในการทำงาน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ระบบ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batch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งานที่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user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สั่งจะไปเข้าคิวรอ ก่อนที่จะได้รับการทำงานจริง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ตัวอย่าง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–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การพิมพ์ออก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network printer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สิ่งที่จะพิมพ์ จะไปรอที่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spool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ก่อน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turnaround time = queue time + response time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การนิยามประสิทธิภาพ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CE1-C51F-49C0-ABF3-BE35B25EBC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ช่วงเวลาที่ใช้งานได้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Availability </a:t>
            </a: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จะวัดเป็นเปอร์เซ็นต์ของ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uptime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1" marL="609120" indent="-306000">
              <a:lnSpc>
                <a:spcPct val="90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99.99 % (4-9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09120" indent="-306000">
              <a:lnSpc>
                <a:spcPct val="90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99.999 % (5-9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01680" indent="-301680">
              <a:lnSpc>
                <a:spcPct val="90000"/>
              </a:lnSpc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มาตรฐานที่ต้องการคือ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99.999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1" marL="609120" indent="-306000">
              <a:lnSpc>
                <a:spcPct val="90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ใ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1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ปี คิดเป็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1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ปี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= 365 * 24 * 60 = 525,600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นาที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09120" indent="-306000">
              <a:lnSpc>
                <a:spcPct val="90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100% - 99.999% = 0.001%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09120" indent="-306000">
              <a:lnSpc>
                <a:spcPct val="90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Browallia New"/>
              </a:rPr>
              <a:t>0.001% </a:t>
            </a:r>
            <a:r>
              <a:rPr b="0" lang="th-TH" sz="3400" spc="-1" strike="noStrike">
                <a:solidFill>
                  <a:srgbClr val="ff0000"/>
                </a:solidFill>
                <a:latin typeface="Browallia New"/>
              </a:rPr>
              <a:t>ของ </a:t>
            </a:r>
            <a:r>
              <a:rPr b="0" lang="en-US" sz="3400" spc="-1" strike="noStrike">
                <a:solidFill>
                  <a:srgbClr val="ff0000"/>
                </a:solidFill>
                <a:latin typeface="Browallia New"/>
              </a:rPr>
              <a:t>1 </a:t>
            </a:r>
            <a:r>
              <a:rPr b="0" lang="th-TH" sz="3400" spc="-1" strike="noStrike">
                <a:solidFill>
                  <a:srgbClr val="ff0000"/>
                </a:solidFill>
                <a:latin typeface="Browallia New"/>
              </a:rPr>
              <a:t>ปี</a:t>
            </a:r>
            <a:r>
              <a:rPr b="0" lang="en-US" sz="3400" spc="-1" strike="noStrike">
                <a:solidFill>
                  <a:srgbClr val="ff0000"/>
                </a:solidFill>
                <a:latin typeface="Browallia New"/>
              </a:rPr>
              <a:t> </a:t>
            </a:r>
            <a:r>
              <a:rPr b="0" lang="en-US" sz="3400" spc="-1" strike="noStrike">
                <a:solidFill>
                  <a:srgbClr val="ff0000"/>
                </a:solidFill>
                <a:latin typeface="Browallia New"/>
              </a:rPr>
              <a:t>= 5.256 </a:t>
            </a:r>
            <a:r>
              <a:rPr b="0" lang="th-TH" sz="3400" spc="-1" strike="noStrike">
                <a:solidFill>
                  <a:srgbClr val="ff0000"/>
                </a:solidFill>
                <a:latin typeface="Browallia New"/>
              </a:rPr>
              <a:t>นาที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การนิยามประสิทธิภาพ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7208-3758-4DE4-8543-89CF243BFF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อัตราการทำงาน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Throughput </a:t>
            </a: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หมายถึงความสามารถของระบบในการให้บริการได้ต่อหนึ่งหน่วยเวลา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1" marL="664560" indent="-33372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ความสามารถในการพิมพ์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Page-Per-Minute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64560" indent="-33372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*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แต่ไม่ได้บ่งบอกว่า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1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งานจะเสร็จในกี่นาที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64560" indent="-33372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มักจะวัดเป็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Transaction Per Second (TPS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การนิยามประสิทธิภาพ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52E-C9E2-4820-B7EF-86A909C475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ตัวแปรประสิทธิภาพภายใน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Internal Performance Variables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สิ่งที่ผู้ใช้มักจะไม่เห็น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สัดส่วนเวลาที่เครื่องทำงา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Utilization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ความยาวคิว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Queue Length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อัตราการมาของงาน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Arrival Rate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อัตราการทำงานเสร็จ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Completion Rate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การนิยามประสิทธิภาพ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056-CF44-4CB4-A198-B9746677F3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8:44:32Z</dcterms:created>
  <dc:creator>Natawut Nupairoj</dc:creator>
  <dc:description/>
  <dc:language>en-US</dc:language>
  <cp:lastModifiedBy>Natawut Nupairoj</cp:lastModifiedBy>
  <dcterms:modified xsi:type="dcterms:W3CDTF">2003-11-18T19:06:22Z</dcterms:modified>
  <cp:revision>26</cp:revision>
  <dc:subject/>
  <dc:title>ความรู้เบื้องต้นเกี่ยวกับ การประเมินสมรรถภาพ</dc:title>
</cp:coreProperties>
</file>